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2FE8-F9DE-4AE0-8BD5-19C55F99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ACB-7BD9-44CD-93C9-BB3F71CE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301-6668-4385-B960-A8C941CE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B10-D589-4136-B796-9DFAB4E8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2341-5AEE-4AED-A9F8-ADE5CDB0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B128-6AA5-4A1E-80B5-28133B12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DC3E-F21F-4F9B-B780-52DA1BBA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E438-7728-4348-BDF7-FDA04ED9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1564-6769-4B60-9269-E1786473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03DB-62EA-4B3C-ADDD-F4B530C4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0AED-79C0-4BDE-B6CA-26189252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78D-7BC0-48DB-956A-89882D53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A17E-6751-4249-AE8C-57B14F48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5919-89D0-49A7-B203-CEDA9195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9151-DD73-494D-A2BA-EAE94784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B8C9-B808-40AB-A451-18AADA2F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071E-E4F1-4D17-A333-5C4C84C1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C77F4-C0D5-4BC8-B551-8A9882E1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79DF-FACE-4DE7-923B-02257E3C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58CBF-1021-4BF5-B5F3-C992342A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C981F-5396-47E0-9B00-35DAE2C0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81C03-1E06-4F7E-A886-92E9A13B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1B5-1C1C-4DE0-956C-B6579119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A2029-A061-4F31-904D-C347495F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43232-FC8D-464E-8D32-6D8A2717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9C532-B04D-41D7-A049-3F99EC1D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F7FA4-CA78-484D-AF67-364C63A9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B1DBA-8C16-4ABF-9E91-452FFD0C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46FB9-BBB5-4065-90CB-1F8820D5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4A9C-392F-4F86-9FA2-3189AB88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F21B0-F912-49F9-958C-450D830E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24AA9-557E-4685-9337-F8DCFF72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D2B07-C8EE-4829-919F-A68F4CD0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72CB-AAC8-47FF-B55C-896808CD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7B0EF-D070-4F2E-9CF6-C4F88194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1D269-2623-4808-83BF-A7BC9C64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0E7D0-C8B6-407B-AB1A-7010FE61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D0F99-13F4-4154-BB7D-99FEE5FF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67ED8-C836-43C0-866C-A42FC989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667B4-7835-4B1E-87A0-3DEB2833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E00B5-0133-405D-890A-8492C577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10C35-98EC-426F-9DE2-84588E26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BFB01-9488-4CE0-82C5-ACE7CB13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45DA9-400A-482C-9023-C02D2E71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E53-EFE2-44C7-BEC2-08574629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2F6B0-AB51-4468-99E6-40CE9AE0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4296D-EE33-4829-B839-7E7D0AB2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FF777-C70F-4BE0-94DE-50AF40AF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3FE7D-F763-4453-A14B-888611A4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94145-4700-4A2A-AAA7-451CB16D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42890-44BA-4BE7-B40F-1EB8B052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01088-CCBA-45A5-986E-4734BC1D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AD130-ABF2-491E-86C0-1D4D2CD1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CB9DB-853F-4EEA-A9B4-6A477159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12817-175F-42D1-9789-3B6C8E63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1E3B-88E2-444D-BAB7-08EF9648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71EEE-BE3C-47DE-B96E-B3BA747E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75A-C47F-4B34-A1D1-756C9A6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DDFA-6F2A-4C26-AB10-6AC541BF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65A-491D-4179-B3F3-BABD9536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F0DD-9F61-4A76-B327-0E79EE5E5E6B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08ED-0116-40E7-9452-9B74D539C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7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98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00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01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03" name="Freeform 17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104" name="Freeform 17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6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8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9E44-832B-42FF-884A-05874F3EF855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52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53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55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56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58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59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61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65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309B-0CE5-440F-89FA-0BBDA20EC9B4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10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212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13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215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216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18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2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1D15-0B0A-44E2-8FFB-1ECF513A820F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36080" cy="68515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14320" y="2362320"/>
            <a:ext cx="572292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nstantia"/>
              </a:rPr>
              <a:t>The Hamilton-Burr Duel: The Peak of Political Tensions</a:t>
            </a:r>
            <a:endParaRPr b="0" lang="en-US" sz="4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00200" y="5181480"/>
            <a:ext cx="571176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Franklin Gothic Book"/>
              </a:rPr>
              <a:t>Nathan Harri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Franklin Gothic Book"/>
              </a:rPr>
              <a:t>Period 7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y Objectiv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e student will be able to decide who they believe succeeded in Hamilton and Burr’s life long battle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MS90261.wav" descr=""/>
          <p:cNvPicPr/>
          <p:nvPr/>
        </p:nvPicPr>
        <p:blipFill>
          <a:blip r:embed="rId1"/>
          <a:stretch/>
        </p:blipFill>
        <p:spPr>
          <a:xfrm>
            <a:off x="8229600" y="152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C:\Users\Harris\AppData\Local\Microsoft\Windows\Temporary Internet Files\Content.IE5\A64IGZNS\MC900232446[1].wmf"/>
          <p:cNvPicPr/>
          <p:nvPr/>
        </p:nvPicPr>
        <p:blipFill>
          <a:blip r:embed="rId2"/>
          <a:stretch/>
        </p:blipFill>
        <p:spPr>
          <a:xfrm>
            <a:off x="0" y="0"/>
            <a:ext cx="9067680" cy="6829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178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966000" cy="12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lexander Hamilto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4600" y="0"/>
            <a:ext cx="6966000" cy="12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aron Burr, Jr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6966000" cy="12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Hits That Coun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-34920" y="-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34920"/>
            <a:ext cx="6966000" cy="12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Duel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0" descr="http://t1.gstatic.com/images?q=tbn:ANd9GcSXCORGg8Eqq1Lyl0NFn3CASSSylxuhEaO5I5u4oOItiGs_E4SaR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69645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Aftermath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63400" y="2119320"/>
            <a:ext cx="6195960" cy="360360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2"/>
          <p:cNvSpPr/>
          <p:nvPr/>
        </p:nvSpPr>
        <p:spPr>
          <a:xfrm>
            <a:off x="81000" y="-928800"/>
            <a:ext cx="23526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81000" y="-928800"/>
            <a:ext cx="23526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81000" y="-928800"/>
            <a:ext cx="23526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81000" y="-928800"/>
            <a:ext cx="23526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89000" y="0"/>
            <a:ext cx="6966000" cy="12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ank you for listening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5:57:16Z</dcterms:created>
  <dc:creator>Harris</dc:creator>
  <dc:description/>
  <dc:language>en-US</dc:language>
  <cp:lastModifiedBy>Mount Lebanon School District</cp:lastModifiedBy>
  <dcterms:modified xsi:type="dcterms:W3CDTF">2011-03-10T17:38:22Z</dcterms:modified>
  <cp:revision>10</cp:revision>
  <dc:subject/>
  <dc:title>PowerPoint Presentation</dc:title>
</cp:coreProperties>
</file>